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449-94B3-44A1-8C30-CCF0F89D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9B9-2925-4D72-BF00-2E26EC7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7AD-3110-495F-9C2E-477DE9D5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5B7-6009-48DF-B9CA-957CC7E2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7FEF-2454-47B2-B3BA-218BF481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4705-469D-4C53-989F-155C3EC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24BC-9E7A-49FD-8412-A5189790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247F-9F13-4AB5-ADD6-8791163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B865-674D-4BEA-9473-D0E33EC1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1FDB-8245-4E8F-A788-3129FFFA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812-AEE3-439A-911C-1FB7965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880-66E8-4EF3-9FBD-01B1065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BDE7-9AB6-4E32-844A-DDE5C558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82E8-6F67-49B7-AA46-AC758E90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9B6A-DA10-4B44-94F3-5440E148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A99-8D10-420B-9A09-60426CFD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47E2-78EE-4F12-9EF7-B4266229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2B3-DF05-4208-85DC-AE7C1518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584-1FD6-464E-B316-1975530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78E-A5CF-4884-A762-CB0DF2F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A548-5D69-47F5-9070-CE06960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836-780D-4440-B33F-301AC94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25B-7C08-4945-9CFC-24E26E0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EE7-9D28-4BEF-9D6A-A72D126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2600-37C5-44A8-9096-C8E56970352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CE7-A907-4FBF-A1CA-5981F0DD88C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33"/>
                </a:solidFill>
                <a:latin typeface="Calisto MT"/>
              </a:rPr>
              <a:t>ESCRITURA DE ARTÍCULOS CIENTÍFICOS</a:t>
            </a:r>
            <a:br>
              <a:rPr sz="2800"/>
            </a:br>
            <a:br>
              <a:rPr sz="2800"/>
            </a:br>
            <a:r>
              <a:rPr b="1" lang="es-MX" sz="1800" spc="-1" strike="noStrike">
                <a:solidFill>
                  <a:srgbClr val="333333"/>
                </a:solidFill>
                <a:latin typeface="Arial"/>
              </a:rPr>
              <a:t>Roberto Aguiar Falconí</a:t>
            </a:r>
            <a:br>
              <a:rPr sz="1800"/>
            </a:br>
            <a:r>
              <a:rPr b="1" lang="es-MX" sz="1800" spc="-1" strike="noStrike">
                <a:solidFill>
                  <a:srgbClr val="333333"/>
                </a:solidFill>
                <a:latin typeface="Arial"/>
              </a:rPr>
              <a:t>Dirección Técnica Científica</a:t>
            </a:r>
            <a:br>
              <a:rPr sz="1800"/>
            </a:br>
            <a:r>
              <a:rPr b="1" lang="es-MX" sz="1800" spc="-1" strike="noStrike">
                <a:solidFill>
                  <a:srgbClr val="333333"/>
                </a:solidFill>
                <a:latin typeface="Arial"/>
              </a:rPr>
              <a:t>Fundación para la Ciencia y la Tecnología, FUNDACYT</a:t>
            </a:r>
            <a:br>
              <a:rPr sz="1800"/>
            </a:br>
            <a:r>
              <a:rPr b="1" lang="es-MX" sz="1800" spc="-1" strike="noStrike">
                <a:solidFill>
                  <a:srgbClr val="333333"/>
                </a:solidFill>
                <a:latin typeface="Arial"/>
              </a:rPr>
              <a:t>Quito-Ecuador, raguiar@fundacyt.org.ec</a:t>
            </a:r>
            <a:endParaRPr b="0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8120" y="4114800"/>
            <a:ext cx="3139920" cy="17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ESCRITURA DE ECUAC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33"/>
                </a:solidFill>
                <a:latin typeface="Calisto MT"/>
              </a:rPr>
              <a:t>Es fundamental que se describan todas las variables que intervienen en la ecuación.</a:t>
            </a:r>
            <a:r>
              <a:rPr b="0" lang="es-MX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Calisto MT"/>
              </a:rPr>
              <a:t>Donde </a:t>
            </a:r>
            <a:r>
              <a:rPr b="0" i="1" lang="es-ES_tradnl" sz="2400" spc="-1" strike="noStrike">
                <a:solidFill>
                  <a:srgbClr val="333333"/>
                </a:solidFill>
                <a:latin typeface="Calisto MT"/>
              </a:rPr>
              <a:t>m</a:t>
            </a:r>
            <a:r>
              <a:rPr b="0" lang="es-ES_tradnl" sz="2400" spc="-1" strike="noStrike">
                <a:solidFill>
                  <a:srgbClr val="333333"/>
                </a:solidFill>
                <a:latin typeface="Calisto MT"/>
              </a:rPr>
              <a:t> es la masa, </a:t>
            </a:r>
            <a:r>
              <a:rPr b="0" i="1" lang="es-ES_tradnl" sz="2400" spc="-1" strike="noStrike">
                <a:solidFill>
                  <a:srgbClr val="333333"/>
                </a:solidFill>
                <a:latin typeface="Calisto MT"/>
              </a:rPr>
              <a:t>c</a:t>
            </a:r>
            <a:r>
              <a:rPr b="0" lang="es-ES_tradnl" sz="2400" spc="-1" strike="noStrike">
                <a:solidFill>
                  <a:srgbClr val="333333"/>
                </a:solidFill>
                <a:latin typeface="Calisto MT"/>
              </a:rPr>
              <a:t> es el amortiguamiento, </a:t>
            </a:r>
            <a:r>
              <a:rPr b="0" i="1" lang="es-ES_tradnl" sz="2400" spc="-1" strike="noStrike">
                <a:solidFill>
                  <a:srgbClr val="333333"/>
                </a:solidFill>
                <a:latin typeface="Calisto MT"/>
              </a:rPr>
              <a:t>k</a:t>
            </a:r>
            <a:r>
              <a:rPr b="0" lang="es-ES_tradnl" sz="2400" spc="-1" strike="noStrike">
                <a:solidFill>
                  <a:srgbClr val="333333"/>
                </a:solidFill>
                <a:latin typeface="Calisto MT"/>
              </a:rPr>
              <a:t> es la rigidez, </a:t>
            </a:r>
            <a:r>
              <a:rPr b="0" i="1" lang="es-ES_tradnl" sz="2400" spc="-1" strike="noStrike">
                <a:solidFill>
                  <a:srgbClr val="333333"/>
                </a:solidFill>
                <a:latin typeface="Calisto MT"/>
              </a:rPr>
              <a:t>x</a:t>
            </a:r>
            <a:r>
              <a:rPr b="0" lang="es-ES_tradnl" sz="2400" spc="-1" strike="noStrike">
                <a:solidFill>
                  <a:srgbClr val="333333"/>
                </a:solidFill>
                <a:latin typeface="Calisto MT"/>
              </a:rPr>
              <a:t> es el desplazamiento, </a:t>
            </a:r>
            <a:r>
              <a:rPr b="0" i="1" lang="es-ES_tradnl" sz="2400" spc="-1" strike="noStrike">
                <a:solidFill>
                  <a:srgbClr val="333333"/>
                </a:solidFill>
                <a:latin typeface="Calisto MT"/>
              </a:rPr>
              <a:t>  </a:t>
            </a:r>
            <a:r>
              <a:rPr b="0" lang="es-ES_tradnl" sz="2400" spc="-1" strike="noStrike">
                <a:solidFill>
                  <a:srgbClr val="333333"/>
                </a:solidFill>
                <a:latin typeface="Calisto MT"/>
              </a:rPr>
              <a:t> es la velocidad y     es la aceleración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3352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438280" y="3048120"/>
                <a:ext cx="39625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467480" y="4343400"/>
                <a:ext cx="239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952880" y="4343400"/>
                <a:ext cx="2397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alisto MT"/>
              </a:rPr>
              <a:t>ESCRITURA DE TABLA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-228600" y="1905120"/>
          <a:ext cx="9906120" cy="401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28600" y="1905120"/>
                    <a:ext cx="9906120" cy="40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ESCRITURA DE</a:t>
            </a:r>
            <a:r>
              <a:rPr b="1" lang="en-US" sz="4000" spc="-1" strike="noStrike">
                <a:solidFill>
                  <a:srgbClr val="ff0000"/>
                </a:solidFill>
                <a:latin typeface="Calisto MT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FIGURA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7391520" cy="523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981080" y="6477120"/>
          <a:ext cx="5613480" cy="145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6477120"/>
                    <a:ext cx="5613480" cy="14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ESCRITURA DE FIGURA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2590920"/>
            <a:ext cx="6324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Todos los símbolos que se utilicen en el artículo, las variables de las ecuaciones, deben estar completamente identificados por una parte y por otra se debe indicar todas las unidades en que se presentan las tablas o figur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CITA DE REFERENCIA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Se indica el nombre del autor o autores y el año de la publicación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…</a:t>
            </a: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. los cuatro eventos para análisis sísmico por desempeño propuestos por Aguiar (2003) para el Ecuador …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…</a:t>
            </a: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. los cuatro eventos para análisis sísmico por desempeño propuestos por Aguiar  para el Ecuador</a:t>
            </a:r>
            <a:r>
              <a:rPr b="0" lang="es-MX" sz="2800" spc="-1" strike="noStrike" baseline="30000">
                <a:solidFill>
                  <a:srgbClr val="333333"/>
                </a:solidFill>
                <a:latin typeface="Calisto MT"/>
              </a:rPr>
              <a:t>(1)</a:t>
            </a: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 …</a:t>
            </a:r>
            <a:r>
              <a:rPr b="0" lang="es-MX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Rivera ET AL (2004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Rivera y otros (2004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ESTRUCTURA DEL TEX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1. Materiales y Métodos o Marco Teóric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2. Resultad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3. Discus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4. Conclus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5. Agradecimient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1. Materiales y Métodos o Marco Teóric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Interesa ilustrar, que la teoría que se presenta es muy sólida, de tal manera que los resultados que se obtienen son muy confiabl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proporcionar la suficiente información para que un experto pueda reproducir los ensayos de laboratorio que se presentan en el artículo.</a:t>
            </a:r>
            <a:r>
              <a:rPr b="0" lang="es-MX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Presentar con detenimiento las ecuaciones fundamentales que describen el estudio que se está realizando y que es materia del artículo.</a:t>
            </a:r>
            <a:r>
              <a:rPr b="1" lang="es-MX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2. RESULTADO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Para el artículo se debe hacer una selección rigurosa de los resultados que se van a presentar es imposible presentar todos por espacio.</a:t>
            </a:r>
            <a:r>
              <a:rPr b="0" lang="es-MX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Mientras más figuras o tablas diferentes hay en un artículo, se demuestra que más se ha trabajado</a:t>
            </a:r>
            <a:r>
              <a:rPr b="0" lang="es-MX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Pero no explican porque se tiene tal o cual tendencia de la curva. De tal manera que es fundamental dar una explicación a los resultados obteni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33"/>
                </a:solidFill>
                <a:latin typeface="Calisto MT"/>
              </a:rPr>
              <a:t>El sentido común o la experiencia de una persona mayor es import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3. DISCUSION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Colocar</a:t>
            </a:r>
            <a:r>
              <a:rPr b="1" lang="es-MX" sz="3200" spc="-1" strike="noStrike">
                <a:solidFill>
                  <a:srgbClr val="333333"/>
                </a:solidFill>
                <a:latin typeface="Calisto MT"/>
              </a:rPr>
              <a:t> </a:t>
            </a: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resultados y discusió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Validar la contribución que se está realizand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La comparación que se presente dará más seguridad al lect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Arial"/>
              </a:rPr>
              <a:t>A</a:t>
            </a: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lcance del mism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Hacer una extrapolació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En resumen lo que se pretende con la discusión es convencer al lector sobre la bondad de la contribución científic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4. CONCLUSION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Vale la pena colocar una pequeña introducción haciendo relación a la redacción del resume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Es preferible colocar pocas conclusiones pero que tengan un gran respaldo investigativ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Calisto MT"/>
              </a:rPr>
              <a:t>Se pueden utilizar frases como:  </a:t>
            </a:r>
            <a:r>
              <a:rPr b="0" i="1" lang="es-MX" sz="3200" spc="-1" strike="noStrike">
                <a:solidFill>
                  <a:srgbClr val="333333"/>
                </a:solidFill>
                <a:latin typeface="Calisto MT"/>
              </a:rPr>
              <a:t>En base a los estudios realizados y que han sido presentados en este artículo se concluye </a:t>
            </a:r>
            <a:r>
              <a:rPr b="1" i="1" lang="es-MX" sz="3200" spc="-1" strike="noStrike">
                <a:solidFill>
                  <a:srgbClr val="333333"/>
                </a:solidFill>
                <a:latin typeface="Calisto MT"/>
              </a:rPr>
              <a:t>……</a:t>
            </a:r>
            <a:r>
              <a:rPr b="0" i="1" lang="es-MX" sz="3200" spc="-1" strike="noStrike">
                <a:solidFill>
                  <a:srgbClr val="333333"/>
                </a:solidFill>
                <a:latin typeface="Calisto MT"/>
              </a:rPr>
              <a:t> destacando las siguientes limitaciones </a:t>
            </a:r>
            <a:r>
              <a:rPr b="1" i="1" lang="es-MX" sz="3200" spc="-1" strike="noStrike">
                <a:solidFill>
                  <a:srgbClr val="333333"/>
                </a:solidFill>
                <a:latin typeface="Calisto MT"/>
              </a:rPr>
              <a:t>……..</a:t>
            </a:r>
            <a:r>
              <a:rPr b="1" i="1" lang="es-MX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PARTES DE UN</a:t>
            </a:r>
            <a:r>
              <a:rPr b="0" lang="en-US" sz="4000" spc="-1" strike="noStrike">
                <a:solidFill>
                  <a:srgbClr val="333333"/>
                </a:solidFill>
                <a:latin typeface="Calisto MT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ARTICUL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Encabeza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Resume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Palabras Clav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Tex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Referenci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Anex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5. AGRADECIMIENTO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 lo realiza principalmente a la Institución o Universidad que ha financiado la investigación científica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 indica el nombre del proyecto y tiempo de ejecució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o es conveniente citar nombre de personas, ya que se corre el riesgo de omitir el nombre de otras que de una u otra forma han ayudado en el estudi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alisto MT"/>
              </a:rPr>
              <a:t>REFERENCIAS BIBLIOGRAFICAS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Aguiar R., (2003), </a:t>
            </a:r>
            <a:r>
              <a:rPr b="0" i="1" lang="es-ES_tradnl" sz="2800" spc="-1" strike="noStrike">
                <a:solidFill>
                  <a:srgbClr val="333333"/>
                </a:solidFill>
                <a:latin typeface="Times New Roman"/>
              </a:rPr>
              <a:t>Análisis Sísmico por Desempeño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, Editorial Ediespe, Centro de Investigaciones Científicas, Escuela Politécnica del Ejército, Primera Edición, 344 p, Quito, Ecuado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Mariño X., Mejía G., y Paredes M., (2003), “Elaboración de una bebida fermentada en base a suero dulce de queso fresco y harina de maíz germinado chulpi”, </a:t>
            </a:r>
            <a:r>
              <a:rPr b="0" i="1" lang="es-ES_tradnl" sz="2800" spc="-1" strike="noStrike">
                <a:solidFill>
                  <a:srgbClr val="333333"/>
                </a:solidFill>
                <a:latin typeface="Times New Roman"/>
              </a:rPr>
              <a:t>Alimentos Ciencia e Ingeniería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.  </a:t>
            </a:r>
            <a:r>
              <a:rPr b="0" i="1" lang="es-ES_tradnl" sz="2800" spc="-1" strike="noStrike">
                <a:solidFill>
                  <a:srgbClr val="333333"/>
                </a:solidFill>
                <a:latin typeface="Times New Roman"/>
              </a:rPr>
              <a:t>Universidad Técnica de Ambato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, 12 (1), 29-35, Ambato, Ecuado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Calisto MT"/>
              </a:rPr>
              <a:t>ENCABEZADO  </a:t>
            </a:r>
            <a:r>
              <a:rPr b="0" lang="en-US" sz="3600" spc="-1" strike="noStrike">
                <a:solidFill>
                  <a:srgbClr val="333333"/>
                </a:solidFill>
                <a:latin typeface="Calisto MT"/>
              </a:rPr>
              <a:t>(Centrado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ítul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(14 punt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utor o Autores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(12 punt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ugar de trabaj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(11 punt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-ma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ONTROL DE DETERIORO DE ADHERENCIA EN LA UNION VIGA COLUMNA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Calisto MT"/>
              </a:rPr>
              <a:t>Roberto Aguiar </a:t>
            </a:r>
            <a:r>
              <a:rPr b="0" lang="es-ES" sz="3200" spc="-1" strike="noStrike" baseline="30000">
                <a:solidFill>
                  <a:srgbClr val="333333"/>
                </a:solidFill>
                <a:latin typeface="Calisto MT"/>
              </a:rPr>
              <a:t>(1) </a:t>
            </a:r>
            <a:r>
              <a:rPr b="0" lang="es-ES" sz="3200" spc="-1" strike="noStrike">
                <a:solidFill>
                  <a:srgbClr val="333333"/>
                </a:solidFill>
                <a:latin typeface="Calisto MT"/>
              </a:rPr>
              <a:t> y Byron Vega </a:t>
            </a:r>
            <a:r>
              <a:rPr b="0" lang="es-ES" sz="3200" spc="-1" strike="noStrike" baseline="30000">
                <a:solidFill>
                  <a:srgbClr val="333333"/>
                </a:solidFill>
                <a:latin typeface="Calisto MT"/>
              </a:rPr>
              <a:t>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(1) Dirección Técnica Científic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FUNDACY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raguiar@fundacyt.org.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(2)</a:t>
            </a: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	</a:t>
            </a: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Facultad de Ingeniería Civi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Escuela Politécnica del Ejérci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baseline="30000">
                <a:solidFill>
                  <a:srgbClr val="333333"/>
                </a:solidFill>
                <a:latin typeface="Calisto MT"/>
              </a:rPr>
              <a:t>bvega@espe.edu.ec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sto MT"/>
              </a:rPr>
              <a:t>RESUMEN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No debe tener más de 300 palabr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Describir exactamente lo que se presenta en el artícul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Resumen debe estar en concordancia con el título del artícul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sto MT"/>
              </a:rPr>
              <a:t>Indicar los objetivos, alcance, metodología y los principales resultad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PALABRAS CLAVE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alisto MT"/>
              </a:rPr>
              <a:t>No es obligatorio la escritura de palabras claves después de haber colocado el resumen.  Máximo se deben colocar unas cinco o seis palabras claves frecuentes e importantes en el texto del artícul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alisto MT"/>
              </a:rPr>
              <a:t>Ejemplo: </a:t>
            </a:r>
            <a:r>
              <a:rPr b="1" i="1" lang="es-ES_tradnl" sz="2400" spc="-1" strike="noStrike" u="sng">
                <a:solidFill>
                  <a:srgbClr val="333333"/>
                </a:solidFill>
                <a:uFillTx/>
                <a:latin typeface="Calisto MT"/>
              </a:rPr>
              <a:t>Pushover</a:t>
            </a:r>
            <a:r>
              <a:rPr b="1" lang="es-ES_tradnl" sz="2400" spc="-1" strike="noStrike">
                <a:solidFill>
                  <a:srgbClr val="333333"/>
                </a:solidFill>
                <a:latin typeface="Calisto MT"/>
              </a:rPr>
              <a:t>- es la palabra clave en un artículo de análisis sísmico por desempeño de estructuras, debido a que es la base en el desarrollo del artículo y no tiene traducción exacta en inglé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alisto MT"/>
              </a:rPr>
              <a:t>Forma de colocar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Calisto MT"/>
              </a:rPr>
              <a:t>Palabras Claves:  pushover, distorsión de piso,</a:t>
            </a:r>
            <a:r>
              <a:rPr b="0" lang="es-ES_tradnl" sz="2800" spc="-1" strike="noStrike">
                <a:solidFill>
                  <a:srgbClr val="333333"/>
                </a:solidFill>
                <a:latin typeface="Calisto MT"/>
              </a:rPr>
              <a:t> sism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ONFIGURACION GENERAL DEL TEXTO DEL ARTICUL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Calisto MT"/>
              </a:rPr>
              <a:t>No colocar apartados demasiado largos, para ello es conveniente utilizar subapartado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Calisto MT"/>
              </a:rPr>
              <a:t>Emplear una redacción muy sencilla y en forma general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Calisto MT"/>
              </a:rPr>
              <a:t>Para despertar más interés en el lector, las figuras y tablas se distribuirán en forma uniforme en el artícul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Calisto MT"/>
              </a:rPr>
              <a:t>Los pie de páginas se utilizarán en casos muy excepcionales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ONFIGURACION GENERAL DEL TEXTO DEL ARTICULO (continuación...)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Calisto MT"/>
              </a:rPr>
              <a:t>Utilizar viñetas.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Calisto MT"/>
              </a:rPr>
              <a:t>Puede cambiar de letra, usar negrillas, colocar tres puntos antes y después de las palabras que interesan resaltar, colocar entre comillas, etc.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Calisto MT"/>
              </a:rPr>
              <a:t>En desarrollos numéricos largos y para mayor comprensión del lector, serán expuestos al final del artículo como</a:t>
            </a:r>
            <a:r>
              <a:rPr b="0" i="1" lang="en-US" sz="2700" spc="-1" strike="noStrike">
                <a:solidFill>
                  <a:srgbClr val="333333"/>
                </a:solidFill>
                <a:latin typeface="Calisto MT"/>
              </a:rPr>
              <a:t> Anexo</a:t>
            </a:r>
            <a:r>
              <a:rPr b="0" lang="en-US" sz="2700" spc="-1" strike="noStrike">
                <a:solidFill>
                  <a:srgbClr val="333333"/>
                </a:solidFill>
                <a:latin typeface="Calisto MT"/>
              </a:rPr>
              <a:t>.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75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Calisto MT"/>
              </a:rPr>
              <a:t>Se puede incorporar tablas, figuras o metodologías de otros autores a fin de darles el crédito respectivo.</a:t>
            </a:r>
            <a:endParaRPr b="0" lang="en-US" sz="27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ONFIGURACION GENERAL DEL TEXTO DEL ARTICULO (continuación...)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alisto MT"/>
              </a:rPr>
              <a:t>Es plagio, cuando se omite referencias en la presentación de un trabajo de otro autor por muy pequeño que se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alisto MT"/>
              </a:rPr>
              <a:t>Deben ser citadas en el texto cada una de las referencias bibliográficas que se encuentren escritas en el artículo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9:14:40Z</dcterms:created>
  <dc:creator>Rbaird</dc:creator>
  <dc:description/>
  <dc:language>en-US</dc:language>
  <cp:lastModifiedBy>Angel Moreno</cp:lastModifiedBy>
  <dcterms:modified xsi:type="dcterms:W3CDTF">2004-11-19T21:35:03Z</dcterms:modified>
  <cp:revision>53</cp:revision>
  <dc:subject/>
  <dc:title>ESCRITURA DE ARTÍCULOS CIENTÍFICOS  Roberto Aguiar Falconí Dirección Técnica Científica Fundación para la Ciencia y la Tecnología, FUNDACYT Quito-Ecuador, raguiar@fundacyt.org.ec </dc:title>
</cp:coreProperties>
</file>